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FD890-B364-47B4-9D81-01312C5A7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6BAC0-EE30-49A4-823A-8BDA228E4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9BF111-15FB-4B78-A12F-D5B85F66C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33C3D0-AEEF-462B-8520-66299921C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9B0611-C61A-4069-A66D-5388DBBF4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759043-0990-4AC2-AB99-8FB7174BB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DEB075-39E2-4035-8F73-6D3DC4F0B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7AF20C-6817-4DB0-A541-EBA99000D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A5C1B2-3739-4CC6-B63F-16208077F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327B8B-4A4A-4F84-A2F8-4B00BCC95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9CAA53-B789-4C0A-ABA4-260F80A25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BEA751-28C0-48CA-BB98-ABE363FE2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4A508-BA92-41EE-A527-41D798E8C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C565F3-B272-45F1-A95F-98D139DD6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29009F-6949-4FCA-B67D-A6B3C2D68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022954-6E3B-416F-A2F7-A6F132895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0AFF7F-52EA-4068-9A9E-77587713D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E6F86A-C9CA-4940-987F-647846FFA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BA4D0E-DB38-44B6-A7C8-58EECD16D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C44D07-8440-42BE-96EA-F6E2B24DC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2C3CBF-6FE4-44DC-9684-F4ACA189E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8B7B62-858C-4508-8C2A-05FB430DA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59BDB7-3537-4417-91AE-9E348DCA7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15CDE-3A98-4F8B-8B38-A8C9ACAC3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ABB4E0-71AA-4B10-91CE-EFFC7B268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F324D6-9C40-41D8-B49C-AD80A445E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B7AFD4-23AC-49BB-AE0E-8EF1175FE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6A0133-E9A3-49B2-81BA-A15D4F0DF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6DBC7C-EB68-4F7F-A203-088B4ECD8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AD50B4-51D3-4AB6-89A2-B36E52FDD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A171CF-0E9F-4365-BC6A-DB288F2C5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6BE2D9-F507-4D08-89BC-745B9F8B4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2D0656-0951-4BEF-B2A6-C25EE2ABF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69507D-22AB-4A9E-A720-86BEB439C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BE073-C1C9-4C94-8287-475B8DFC3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38DB7E-19C9-467D-A670-DAEBF177F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719756-8941-40B4-9639-77556CD84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328AE9-164A-4B2F-99F2-CD7FFD2D9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C4EE16-B280-4FA9-BB06-981BFEEC5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25720D-CB2C-4141-9094-3D1BB3725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A58F25-D428-40EC-822E-931A909D6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4B7395-2BE2-49AD-9ECC-AF2DEE6C6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610D4B-9DB1-485E-A33E-0F552019D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6CF8B6-556C-4CB5-A82A-F6B569C3C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7BAA47-C4A8-4603-B55D-83F5F024C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21FB0-2657-4864-BCA6-B977ACA16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AD3B1D-0A8E-40B7-8489-39AB3C532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EEB03E-C3C3-4E7A-837E-C51058F20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012B6B-F071-4CD6-872F-6DB298640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F15BE8-49B1-41A7-A966-E49D39C3C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6EEB93-48EE-41D5-A86D-0263A7659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8241DE2-9DF9-4E6E-AAFC-310D7D980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547E71E-12D1-40BE-898B-2372E2006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789A18A-BB78-48D3-808B-6C5316EE4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7281C7A-3147-4E91-963F-9B172A6CE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C47541B-7B06-4F6F-A5FC-53E78648B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50E8A-30CD-43A5-AE5A-435ACB6C9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2ACFC30-7757-4CDB-899F-4FD3E6147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133D23E-6FE8-401D-98A2-D144AE173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B72ACDE-0B35-42AC-A79D-4B89C7596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3AF0361-A3B4-48D5-BA8E-5B6CC9E70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699CB61-65BA-4E44-A7EE-B1C830E52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2FB2C82-6082-4512-B670-1A8796AA8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DD000EA-A4C8-4FB9-8446-65FE86DE5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D919B7B-FBF8-406C-9F44-A6334DE77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2D85938-0681-4D1C-A7A2-8637AE8BB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12B5B4E-9F3E-4D0A-9B33-A4CDD937B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F893D-4EFA-4809-AC38-1A299777D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12B1125-691B-4D99-AFF5-CB60AE533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DB46353-7172-4A9C-A680-4867271E2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9DCBE98-80A5-4303-817B-7B1D6FFF2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92DAC0F-A0A5-4DA4-9339-3AB5EA8DE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02852BA-5409-4705-BF42-47B0F522D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37918EF-B766-47F8-B51F-DA6FD4134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307C5F1-5E80-40D0-863B-32C0A29FC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731AD9B-F6D1-4FC4-A2E9-24A2C9DB6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D9704E3-2354-47F4-B17E-BC0780DF9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F9D05A7-FA4D-43CC-BBC4-75A9D75C4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61FCE-DEBF-4042-8DF0-C9E6AE223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8C0D1C4-0068-4360-81C0-BBDC8A1CE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5B20350-478C-4086-9555-4AEB5AE67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5C41B6E-BD82-490B-BE5B-851EE23A6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9D284AA-F8C2-4909-8A64-603FF7761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B334B1E-E438-4ABA-8843-C9B570BA4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17CDD79-8C95-4013-8F60-AC3ABCBE3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E7CF35C-91A3-40F9-9B98-72413B702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01D620F-C5F9-4E91-A0D9-23F74FC12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3CA950E-48CC-415A-9AC1-1901C621C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E942EA7-0494-4827-B8C7-3FCBDF33C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238C1-54CC-4235-A0E1-5826F0B9C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12629B3-84EA-4D98-B0D4-94C3D2704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14D053B-80CD-4395-9E84-7DB2ED53B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092081B-BFCB-439B-9580-A1C2B4044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BE7E3FC-6B6E-436A-8DB2-B98D19A7B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08314D7-5E03-4183-88BE-2CA714F9E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1D2C6CE-73EA-46BA-A7DE-3E8E2A248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8F019AB-9C1C-4600-8AAA-DDA460898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C4E9ECE-4629-4DD7-ADCF-095495E84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F1E7E51-6C0F-4CF7-9D7A-0DEBAE018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3FCDA98-A030-4EA8-B459-1650941CD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622F5-080A-4405-AA85-055F49874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9C7B55F-2F4B-4B1C-8EE8-3F1A92067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1FB0246-B7E1-40A6-9B1F-31F5AAD13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D3326B2-597F-486D-BFB7-1D975E965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51ABEEC-9D0D-4873-B01A-659D8CDE2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39DCEE2-C1A2-472F-BE56-D4B4342AC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DE55728-3114-464F-A915-CADD4F257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BAD0FA9-2B1B-4692-89FC-FF9FBD6DB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EFEFA84-AF54-4262-82CA-3F6FB234D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AE42CFD-6950-4181-B11D-5CD1668A6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C9CCAC8-B6EF-42F0-AD8F-9FCFE5B28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5FFBB-48C2-42AC-9DDD-8F4CA4295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B23B9-4006-4C51-A391-83D3FD503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85E0F2F-5597-4317-83A2-F635BDECC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71BCA8F-59BE-4D17-A6D3-20A52B0E7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9F3D177-3B7F-4C64-8FDA-7485B034C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26E0379-4A0A-43F8-9170-DB6C78096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877C622-2B3F-42DA-A260-96295F726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BB6A7B7-2A5F-418E-A5E8-D5A468790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918F1DE-9FFD-4E1F-B1B9-052ED3A80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549F39E-0C9B-49D1-9E1D-018352C6A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3E450A3-9B30-4E55-BA00-3A4C44AB2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E48F5A0-A829-46B5-8F02-A096FC912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CA40C-D381-462B-B9C4-321FBF2CA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84376B2-E187-465D-B537-523D794E3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B2463A4-DC7B-4956-9AD0-A37AC637A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7525CED-0BF0-4F2E-92A2-08ACFA03A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5057D13-E39C-4A2C-9F12-AF1ADC661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3DDF14F-363F-441D-BD42-0C2FC1AB3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07A2ECA-8F19-4622-B9EC-F41C3D04B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8F6AF18-94D3-408B-B452-255062A36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D56F570-580A-44F4-8A65-38D2C5280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A0F25A3-E870-421B-A921-AD5800ED3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358F8C1-1CC7-4872-8AF9-E0B69FEC3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3C03B-6DF8-4C84-9728-FE10BBF6B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289964D-445E-49C8-99A4-2025F2D73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4C87401-5C6D-4D73-9836-8E8CE36D8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D74EF57-3B18-44CD-A4E7-0F5A05778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3D2F5A6-B58D-4BBF-AA3B-8117C75F4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B16B551-6D52-4F2A-92F0-7510C1694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DE5F952-F5A5-452E-B6A4-3BF4E2500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EE41071-BC6D-44AA-9ABB-80F6EEE2E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DD9D571-36C3-475E-ABD5-7FAB6F86D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594831D-9775-4D92-998F-A1854C8DB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8DB5D26-6340-43BD-B28B-104FB81C2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9A844-442B-4F66-836C-2E2F0ED71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01901BA-65A2-4CBF-BAC6-46EBD7FE7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6E17CB9-F9AD-4879-85DC-550F8734A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F0B9103-4507-432C-8C2F-B4248B786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D487CBE-CA26-4F91-AE0F-A489A164A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58484E7-4C5B-4A21-A284-57FC1B765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ED5A570-18C5-4C51-B649-E066D06DF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B3C84D9-2DF5-47AE-ACBC-4DA37659D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2E59374-FC58-40AD-A67D-A27A3BE8F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2A500BA-13F2-44CC-AFB1-D0DCE5903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11603A6-E7B1-48C5-882A-D90B3B729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9A445-97C0-46FD-BFAE-2BFA4775E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725CA2F-86DE-4A09-B524-2ECB3C962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995F978-51E3-4903-A41F-692A0D950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A76F8BF-EA95-407C-ACF9-247286AB4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EF7E0E6-1C8A-4279-B506-43CB5A794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F462ECC-AAD2-4500-92AE-C9B17496A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61B82A0-F341-4541-9656-A1032975C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B68DB2B-DB2A-46BC-976B-705D84CAA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6FB49D9-5D99-43C2-A903-BE3A91078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4A8ED31-98F2-4711-AB3C-3BF391BD8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7627CAF-CC06-407B-81CC-257AE41A5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82F954-D498-4D92-A9C6-6654B0E9A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0F24CD7-605E-4DD4-A5C6-6A5CF975A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36BFEFB-EFAD-49E3-8137-593FD7C97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1D0DB88-0B9D-4C98-A29B-116C1DA65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BAC8EC-C3FD-4EF4-9431-502E505BE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588DFA-2C32-404D-A5CC-7949AE061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BC3E96-3122-466A-97C8-94EE994BE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781C68-D11C-4708-92EA-D196CE025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31355-B770-4AA2-B0DF-09544B655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91916D-D63F-40D6-B3C5-57190A278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E3CB05-7EFD-4E22-A060-6862F7301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174D69-DA5D-4CC8-AB23-9C82B0BF6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B3B8A2-86D0-4947-9EA0-B954D0C04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8D5B59-238C-418E-AE7D-7FA4B2258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602997-469B-4FDB-90CE-CD5585795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AFC52E-EE09-4FB8-9708-1B29B8DCB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21789D-0B1E-4AEE-BB9C-A3A24BC1A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8988B0-FF15-4DA3-8B94-FA9CA65E4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21E3DA-641B-4545-8FE9-2033BEB4B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5ED03-D759-46D5-9E80-6E4FE1D9E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A5BDD8-7AC4-4142-9EA0-D31EA46E9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67DD83-6478-4DF5-A39D-A04E17D74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600F61-ADA6-4E15-9CD0-61479FC43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49EE79-DB6A-4AAA-B7DD-3F38D8E92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437810-198D-4C1A-97ED-E46151715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C13555-332E-437E-80D6-6653BCFC9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B2ED2E-E032-4C2A-B660-31F05E3E8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EE4BE7-A9EE-4249-AD8C-5F631159D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ABF060-CE9A-4F68-BCBD-E464547F0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F8ACBC-8A4F-43E3-8695-D7B471A09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D34CD-6144-455A-B11F-5DCDB00EF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84B0C5-0F41-4EEB-B3BB-468D1C8A5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2211BA-D733-4986-B6B5-06A40BAC4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ED1147-857A-42F7-95AD-E8E8B7696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83CA37-6C8B-46B9-8505-A1A9E2B51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D1532D-CBD3-4417-B935-7C3865ACF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B2D4A4-38B7-4376-8CC3-E9B1BD307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6A3422-E409-4529-9B0D-1DB1B9B3B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88DBAB-3F28-477F-89F3-2478FF732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67C2D8-075A-4D17-9BCD-FF3C14F51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E67E84-84DC-4BB0-BA77-277ED64C5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8351B-F2BC-49E1-AAEF-7C1FE437F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CB1473-B977-4668-A5A9-74D0F47FD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48303D-943F-4F3C-B2BB-F7608449D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E35321-9C94-4EB8-A8DB-38FFDBED4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647E67-1E4D-441C-95F6-D4C32665F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593B0D-E8B4-4C1C-B1B7-8AAA9D662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C44518-A956-4A20-89E5-A8B0FDEC5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72B98C-44E1-4AC5-8071-6D7CBE160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0A563C-E1CD-4822-84B7-C3774365A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C4A662-212D-472D-A210-4F99545FB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570EDF-2F28-4C4E-B574-C64BA7A9E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4ECC9-416C-47F4-A83B-1EBBCBAC9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01FC4A-BC65-4813-80F0-8FB849A28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540C76-F824-4EAC-BF89-882F84B72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9217B2-2D01-4FDE-B157-AC6B69A7A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F693B1-5C43-4104-BF22-F3DBCC428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FBE419-0F52-4CA4-916F-7A584F2D4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FCA7E8-ADF4-465F-A868-17C7F6E84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1E9E01-6A84-4DAA-90E4-644E2CF3B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A4D1D3-B4CF-4694-985F-BEC25B214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56FF02-ABE1-490F-B41F-45259861C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E456CE-ED3F-45FA-8722-BEDB794E8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7EB5A-BB9B-4908-BC51-8D05AE259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F81FEE-D956-4DA6-99D9-9CD5E808F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DE850C-B5B0-4F7D-A69A-609A6211F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67E083-1961-4FDC-B241-3C835402B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2A4BE0-7435-4662-B958-CCF4FBD73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240A14-912E-4B7B-987B-A38F0D80B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9F7053-6756-4C8C-B53A-C2853114A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295FD9-05D2-4404-AA59-349CE6279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6188BB-4976-4900-ABA8-FC06AD0C2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550B15-8B99-4F2F-A3CE-4865D61D0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4F68EA-24D1-4FFF-AD30-3E0B73544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23E5A-877F-40E5-A466-633C359DD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3A78D1-937E-4052-80F9-AFE56DC45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7B0CDC-F4BD-402B-AC11-AE58B4FF9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88211E-7178-4CE2-9968-4894C817D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2D6674-197B-4486-BEFD-81CD1AF52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82CC14-FB6E-4F83-8E0D-642150EE7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D42E10-D4EF-4292-A057-C9E3B9469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FDA10D-BAEC-4D91-A7DF-438C54184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E4A19B-D8BD-46FF-8A87-1EF2EDDB6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D0BC0C-8EA9-432E-8D90-9D53801D3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93A52C-F3BF-4D04-B4E8-711D7DEE9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4FAEB-7A6C-4FD2-92E8-AC3D4305D95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C7BEB-FEC6-4DC2-BB06-1FC1CD9E6FC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3FB62-5950-4660-BAA9-C2401734EF7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21259-03E7-4353-8B86-FAB98ADC8F9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4DA60-79AD-4FED-96F8-B708DD65643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97402-2DAA-49F2-9A69-AA8A3B4ECE1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7EFEB-A187-4675-A926-EF1EDEFA67A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D2FA9-59C8-4F06-8D53-747FAB19ED7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E3863-2976-4CE2-AD58-487F58D4B01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AE558-032A-4C68-94EF-0AA0FE817D5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10F3D-35DB-4FE2-84FE-EBE149C73A9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ECA22-1F6D-4D0B-AF0C-137DB568EC6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6F910-D355-49D9-B5EF-F5D29A9DABE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E80E4-0C26-4A3B-A9D3-1A227869AEE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65FA6-F479-4B9C-91A9-A093FD75C8E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446D8-7C05-4DD7-A797-E8FB7947C97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81271-7993-41CF-828D-BFEC519180F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7A67F-8BC0-489B-9966-FC47030222E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26A61-5A84-4ED3-883D-36371787BDC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966D3-F0BF-49BC-AA35-51A92B523AE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E3D17-D338-4716-A4CE-38FCA38A009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A00B2-9C17-436E-A68D-A81DAE3D8AC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F7DBD-EAF2-45B5-8F0C-8E56958DAED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4D1F9-904C-4516-92D7-E69EB368EED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B30CC-5C88-46C8-8669-B35DA91A312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D5CDC-952B-435E-811F-030EBDF5696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AD10B-2941-4268-866A-79FFE988850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C8898-7E99-4D6F-A640-EA7C8070969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08DD4-BE54-400C-AD9E-C82F95BCE70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7D857-F39B-4B34-B854-FF77FDC5D5D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B072B-D1D3-4FA3-A6C2-CBF52E53707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D417C-2BD5-4237-A5C7-5F6F923D8AB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DFCE2-5EE1-4AE2-927A-CACB0303538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A1A33-1719-4990-A3D1-B2145F5EC1C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87B1E-454A-4EB6-9E65-71B3AC360EB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12E36-54BF-4CC1-AAF2-E5743C7F6B0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CA88C-F52A-498C-AF72-3C39134FFDB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BE6E7-C164-4E56-A0B1-D1C05AFB858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D0B49-04E9-4BC3-8635-A1DC59CCF95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D9FBC-3BFF-4412-8695-804D7231618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image" Target="../media/image10.png"/><Relationship Id="rId15" Type="http://schemas.openxmlformats.org/officeDocument/2006/relationships/image" Target="../media/image10.png"/><Relationship Id="rId16" Type="http://schemas.openxmlformats.org/officeDocument/2006/relationships/image" Target="../media/image10.png"/><Relationship Id="rId17" Type="http://schemas.openxmlformats.org/officeDocument/2006/relationships/image" Target="../media/image10.png"/><Relationship Id="rId18" Type="http://schemas.openxmlformats.org/officeDocument/2006/relationships/image" Target="../media/image10.png"/><Relationship Id="rId19" Type="http://schemas.openxmlformats.org/officeDocument/2006/relationships/image" Target="../media/image10.png"/><Relationship Id="rId20" Type="http://schemas.openxmlformats.org/officeDocument/2006/relationships/image" Target="../media/image10.png"/><Relationship Id="rId21" Type="http://schemas.openxmlformats.org/officeDocument/2006/relationships/image" Target="../media/image10.png"/><Relationship Id="rId22" Type="http://schemas.openxmlformats.org/officeDocument/2006/relationships/image" Target="../media/image10.png"/><Relationship Id="rId2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image" Target="../media/image10.png"/><Relationship Id="rId15" Type="http://schemas.openxmlformats.org/officeDocument/2006/relationships/image" Target="../media/image10.png"/><Relationship Id="rId16" Type="http://schemas.openxmlformats.org/officeDocument/2006/relationships/image" Target="../media/image10.png"/><Relationship Id="rId17" Type="http://schemas.openxmlformats.org/officeDocument/2006/relationships/image" Target="../media/image10.png"/><Relationship Id="rId18" Type="http://schemas.openxmlformats.org/officeDocument/2006/relationships/image" Target="../media/image10.png"/><Relationship Id="rId19" Type="http://schemas.openxmlformats.org/officeDocument/2006/relationships/image" Target="../media/image10.png"/><Relationship Id="rId20" Type="http://schemas.openxmlformats.org/officeDocument/2006/relationships/image" Target="../media/image10.png"/><Relationship Id="rId21" Type="http://schemas.openxmlformats.org/officeDocument/2006/relationships/image" Target="../media/image10.png"/><Relationship Id="rId22" Type="http://schemas.openxmlformats.org/officeDocument/2006/relationships/image" Target="../media/image10.png"/><Relationship Id="rId23" Type="http://schemas.openxmlformats.org/officeDocument/2006/relationships/image" Target="../media/image10.png"/><Relationship Id="rId24" Type="http://schemas.openxmlformats.org/officeDocument/2006/relationships/image" Target="../media/image10.png"/><Relationship Id="rId25" Type="http://schemas.openxmlformats.org/officeDocument/2006/relationships/image" Target="../media/image10.png"/><Relationship Id="rId26" Type="http://schemas.openxmlformats.org/officeDocument/2006/relationships/image" Target="../media/image10.png"/><Relationship Id="rId27" Type="http://schemas.openxmlformats.org/officeDocument/2006/relationships/image" Target="../media/image10.png"/><Relationship Id="rId28" Type="http://schemas.openxmlformats.org/officeDocument/2006/relationships/image" Target="../media/image10.png"/><Relationship Id="rId29" Type="http://schemas.openxmlformats.org/officeDocument/2006/relationships/image" Target="../media/image10.png"/><Relationship Id="rId30" Type="http://schemas.openxmlformats.org/officeDocument/2006/relationships/image" Target="../media/image10.png"/><Relationship Id="rId31" Type="http://schemas.openxmlformats.org/officeDocument/2006/relationships/image" Target="../media/image10.png"/><Relationship Id="rId3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1305000" y="2747880"/>
            <a:ext cx="6534000" cy="13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2" name="图片 60428" descr=""/>
          <p:cNvPicPr/>
          <p:nvPr/>
        </p:nvPicPr>
        <p:blipFill>
          <a:blip r:embed="rId1"/>
          <a:stretch/>
        </p:blipFill>
        <p:spPr>
          <a:xfrm>
            <a:off x="128520" y="843120"/>
            <a:ext cx="8886960" cy="5171760"/>
          </a:xfrm>
          <a:prstGeom prst="rect">
            <a:avLst/>
          </a:prstGeom>
          <a:ln w="0">
            <a:noFill/>
          </a:ln>
        </p:spPr>
      </p:pic>
      <p:pic>
        <p:nvPicPr>
          <p:cNvPr id="923" name="Picture 1" descr=""/>
          <p:cNvPicPr/>
          <p:nvPr/>
        </p:nvPicPr>
        <p:blipFill>
          <a:blip r:embed="rId2"/>
          <a:stretch/>
        </p:blipFill>
        <p:spPr>
          <a:xfrm>
            <a:off x="7164360" y="1925640"/>
            <a:ext cx="289080" cy="25704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1" descr=""/>
          <p:cNvPicPr/>
          <p:nvPr/>
        </p:nvPicPr>
        <p:blipFill>
          <a:blip r:embed="rId3"/>
          <a:stretch/>
        </p:blipFill>
        <p:spPr>
          <a:xfrm>
            <a:off x="8388360" y="1935000"/>
            <a:ext cx="289080" cy="25740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1" descr=""/>
          <p:cNvPicPr/>
          <p:nvPr/>
        </p:nvPicPr>
        <p:blipFill>
          <a:blip r:embed="rId4"/>
          <a:stretch/>
        </p:blipFill>
        <p:spPr>
          <a:xfrm>
            <a:off x="1403280" y="2276640"/>
            <a:ext cx="647640" cy="25704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1" descr=""/>
          <p:cNvPicPr/>
          <p:nvPr/>
        </p:nvPicPr>
        <p:blipFill>
          <a:blip r:embed="rId5"/>
          <a:stretch/>
        </p:blipFill>
        <p:spPr>
          <a:xfrm>
            <a:off x="3843360" y="2598840"/>
            <a:ext cx="358920" cy="25704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1" descr=""/>
          <p:cNvPicPr/>
          <p:nvPr/>
        </p:nvPicPr>
        <p:blipFill>
          <a:blip r:embed="rId6"/>
          <a:stretch/>
        </p:blipFill>
        <p:spPr>
          <a:xfrm>
            <a:off x="5724360" y="2598840"/>
            <a:ext cx="358920" cy="257040"/>
          </a:xfrm>
          <a:prstGeom prst="rect">
            <a:avLst/>
          </a:prstGeom>
          <a:ln w="0">
            <a:noFill/>
          </a:ln>
        </p:spPr>
      </p:pic>
      <p:pic>
        <p:nvPicPr>
          <p:cNvPr id="928" name="Picture 1" descr=""/>
          <p:cNvPicPr/>
          <p:nvPr/>
        </p:nvPicPr>
        <p:blipFill>
          <a:blip r:embed="rId7"/>
          <a:stretch/>
        </p:blipFill>
        <p:spPr>
          <a:xfrm>
            <a:off x="7812000" y="2608200"/>
            <a:ext cx="358920" cy="25740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1" descr=""/>
          <p:cNvPicPr/>
          <p:nvPr/>
        </p:nvPicPr>
        <p:blipFill>
          <a:blip r:embed="rId8"/>
          <a:stretch/>
        </p:blipFill>
        <p:spPr>
          <a:xfrm>
            <a:off x="3708360" y="2943360"/>
            <a:ext cx="358920" cy="25704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1" descr=""/>
          <p:cNvPicPr/>
          <p:nvPr/>
        </p:nvPicPr>
        <p:blipFill>
          <a:blip r:embed="rId9"/>
          <a:stretch/>
        </p:blipFill>
        <p:spPr>
          <a:xfrm>
            <a:off x="5580000" y="2943360"/>
            <a:ext cx="358920" cy="257040"/>
          </a:xfrm>
          <a:prstGeom prst="rect">
            <a:avLst/>
          </a:prstGeom>
          <a:ln w="0">
            <a:noFill/>
          </a:ln>
        </p:spPr>
      </p:pic>
      <p:pic>
        <p:nvPicPr>
          <p:cNvPr id="931" name="Picture 1" descr=""/>
          <p:cNvPicPr/>
          <p:nvPr/>
        </p:nvPicPr>
        <p:blipFill>
          <a:blip r:embed="rId10"/>
          <a:stretch/>
        </p:blipFill>
        <p:spPr>
          <a:xfrm>
            <a:off x="7686720" y="2943360"/>
            <a:ext cx="358560" cy="257040"/>
          </a:xfrm>
          <a:prstGeom prst="rect">
            <a:avLst/>
          </a:prstGeom>
          <a:ln w="0">
            <a:noFill/>
          </a:ln>
        </p:spPr>
      </p:pic>
      <p:pic>
        <p:nvPicPr>
          <p:cNvPr id="932" name="Picture 1" descr=""/>
          <p:cNvPicPr/>
          <p:nvPr/>
        </p:nvPicPr>
        <p:blipFill>
          <a:blip r:embed="rId11"/>
          <a:stretch/>
        </p:blipFill>
        <p:spPr>
          <a:xfrm>
            <a:off x="846000" y="4057560"/>
            <a:ext cx="1143000" cy="257400"/>
          </a:xfrm>
          <a:prstGeom prst="rect">
            <a:avLst/>
          </a:prstGeom>
          <a:ln w="0">
            <a:noFill/>
          </a:ln>
        </p:spPr>
      </p:pic>
      <p:pic>
        <p:nvPicPr>
          <p:cNvPr id="933" name="Picture 1" descr=""/>
          <p:cNvPicPr/>
          <p:nvPr/>
        </p:nvPicPr>
        <p:blipFill>
          <a:blip r:embed="rId12"/>
          <a:stretch/>
        </p:blipFill>
        <p:spPr>
          <a:xfrm>
            <a:off x="826920" y="4375080"/>
            <a:ext cx="1143000" cy="257400"/>
          </a:xfrm>
          <a:prstGeom prst="rect">
            <a:avLst/>
          </a:prstGeom>
          <a:ln w="0">
            <a:noFill/>
          </a:ln>
        </p:spPr>
      </p:pic>
      <p:pic>
        <p:nvPicPr>
          <p:cNvPr id="934" name="Picture 1" descr=""/>
          <p:cNvPicPr/>
          <p:nvPr/>
        </p:nvPicPr>
        <p:blipFill>
          <a:blip r:embed="rId13"/>
          <a:stretch/>
        </p:blipFill>
        <p:spPr>
          <a:xfrm>
            <a:off x="3813120" y="4014720"/>
            <a:ext cx="1143000" cy="257400"/>
          </a:xfrm>
          <a:prstGeom prst="rect">
            <a:avLst/>
          </a:prstGeom>
          <a:ln w="0">
            <a:noFill/>
          </a:ln>
        </p:spPr>
      </p:pic>
      <p:pic>
        <p:nvPicPr>
          <p:cNvPr id="935" name="Picture 1" descr=""/>
          <p:cNvPicPr/>
          <p:nvPr/>
        </p:nvPicPr>
        <p:blipFill>
          <a:blip r:embed="rId14"/>
          <a:stretch/>
        </p:blipFill>
        <p:spPr>
          <a:xfrm>
            <a:off x="3822840" y="4375080"/>
            <a:ext cx="1143000" cy="257400"/>
          </a:xfrm>
          <a:prstGeom prst="rect">
            <a:avLst/>
          </a:prstGeom>
          <a:ln w="0">
            <a:noFill/>
          </a:ln>
        </p:spPr>
      </p:pic>
      <p:pic>
        <p:nvPicPr>
          <p:cNvPr id="936" name="Picture 1" descr=""/>
          <p:cNvPicPr/>
          <p:nvPr/>
        </p:nvPicPr>
        <p:blipFill>
          <a:blip r:embed="rId15"/>
          <a:stretch/>
        </p:blipFill>
        <p:spPr>
          <a:xfrm>
            <a:off x="6804000" y="4033800"/>
            <a:ext cx="1143000" cy="257040"/>
          </a:xfrm>
          <a:prstGeom prst="rect">
            <a:avLst/>
          </a:prstGeom>
          <a:ln w="0">
            <a:noFill/>
          </a:ln>
        </p:spPr>
      </p:pic>
      <p:pic>
        <p:nvPicPr>
          <p:cNvPr id="937" name="Picture 1" descr=""/>
          <p:cNvPicPr/>
          <p:nvPr/>
        </p:nvPicPr>
        <p:blipFill>
          <a:blip r:embed="rId16"/>
          <a:stretch/>
        </p:blipFill>
        <p:spPr>
          <a:xfrm>
            <a:off x="6804000" y="4365720"/>
            <a:ext cx="1143000" cy="257040"/>
          </a:xfrm>
          <a:prstGeom prst="rect">
            <a:avLst/>
          </a:prstGeom>
          <a:ln w="0">
            <a:noFill/>
          </a:ln>
        </p:spPr>
      </p:pic>
      <p:pic>
        <p:nvPicPr>
          <p:cNvPr id="938" name="Picture 1" descr=""/>
          <p:cNvPicPr/>
          <p:nvPr/>
        </p:nvPicPr>
        <p:blipFill>
          <a:blip r:embed="rId17"/>
          <a:stretch/>
        </p:blipFill>
        <p:spPr>
          <a:xfrm>
            <a:off x="836640" y="5373720"/>
            <a:ext cx="1143000" cy="25704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1" descr=""/>
          <p:cNvPicPr/>
          <p:nvPr/>
        </p:nvPicPr>
        <p:blipFill>
          <a:blip r:embed="rId18"/>
          <a:stretch/>
        </p:blipFill>
        <p:spPr>
          <a:xfrm>
            <a:off x="836640" y="5724360"/>
            <a:ext cx="1143000" cy="257400"/>
          </a:xfrm>
          <a:prstGeom prst="rect">
            <a:avLst/>
          </a:prstGeom>
          <a:ln w="0">
            <a:noFill/>
          </a:ln>
        </p:spPr>
      </p:pic>
      <p:pic>
        <p:nvPicPr>
          <p:cNvPr id="940" name="Picture 1" descr=""/>
          <p:cNvPicPr/>
          <p:nvPr/>
        </p:nvPicPr>
        <p:blipFill>
          <a:blip r:embed="rId19"/>
          <a:stretch/>
        </p:blipFill>
        <p:spPr>
          <a:xfrm>
            <a:off x="3822840" y="5373720"/>
            <a:ext cx="1143000" cy="257040"/>
          </a:xfrm>
          <a:prstGeom prst="rect">
            <a:avLst/>
          </a:prstGeom>
          <a:ln w="0">
            <a:noFill/>
          </a:ln>
        </p:spPr>
      </p:pic>
      <p:pic>
        <p:nvPicPr>
          <p:cNvPr id="941" name="Picture 1" descr=""/>
          <p:cNvPicPr/>
          <p:nvPr/>
        </p:nvPicPr>
        <p:blipFill>
          <a:blip r:embed="rId20"/>
          <a:stretch/>
        </p:blipFill>
        <p:spPr>
          <a:xfrm>
            <a:off x="3832200" y="5715000"/>
            <a:ext cx="1143000" cy="257040"/>
          </a:xfrm>
          <a:prstGeom prst="rect">
            <a:avLst/>
          </a:prstGeom>
          <a:ln w="0">
            <a:noFill/>
          </a:ln>
        </p:spPr>
      </p:pic>
      <p:pic>
        <p:nvPicPr>
          <p:cNvPr id="942" name="Picture 1" descr=""/>
          <p:cNvPicPr/>
          <p:nvPr/>
        </p:nvPicPr>
        <p:blipFill>
          <a:blip r:embed="rId21"/>
          <a:stretch/>
        </p:blipFill>
        <p:spPr>
          <a:xfrm>
            <a:off x="6794640" y="5373720"/>
            <a:ext cx="1143000" cy="257040"/>
          </a:xfrm>
          <a:prstGeom prst="rect">
            <a:avLst/>
          </a:prstGeom>
          <a:ln w="0">
            <a:noFill/>
          </a:ln>
        </p:spPr>
      </p:pic>
      <p:pic>
        <p:nvPicPr>
          <p:cNvPr id="943" name="Picture 1" descr=""/>
          <p:cNvPicPr/>
          <p:nvPr/>
        </p:nvPicPr>
        <p:blipFill>
          <a:blip r:embed="rId22"/>
          <a:stretch/>
        </p:blipFill>
        <p:spPr>
          <a:xfrm>
            <a:off x="6794640" y="5705640"/>
            <a:ext cx="1143000" cy="25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1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6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1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6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1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6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1" dur="5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6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1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6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1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6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4" name="图片 59410" descr=""/>
          <p:cNvPicPr/>
          <p:nvPr/>
        </p:nvPicPr>
        <p:blipFill>
          <a:blip r:embed="rId1"/>
          <a:stretch/>
        </p:blipFill>
        <p:spPr>
          <a:xfrm>
            <a:off x="195120" y="750960"/>
            <a:ext cx="8753760" cy="5991120"/>
          </a:xfrm>
          <a:prstGeom prst="rect">
            <a:avLst/>
          </a:prstGeom>
          <a:ln w="0">
            <a:noFill/>
          </a:ln>
        </p:spPr>
      </p:pic>
      <p:pic>
        <p:nvPicPr>
          <p:cNvPr id="945" name="Picture 1" descr=""/>
          <p:cNvPicPr/>
          <p:nvPr/>
        </p:nvPicPr>
        <p:blipFill>
          <a:blip r:embed="rId2"/>
          <a:stretch/>
        </p:blipFill>
        <p:spPr>
          <a:xfrm>
            <a:off x="1936800" y="1287360"/>
            <a:ext cx="288720" cy="257400"/>
          </a:xfrm>
          <a:prstGeom prst="rect">
            <a:avLst/>
          </a:prstGeom>
          <a:ln w="0">
            <a:noFill/>
          </a:ln>
        </p:spPr>
      </p:pic>
      <p:pic>
        <p:nvPicPr>
          <p:cNvPr id="946" name="Picture 1" descr=""/>
          <p:cNvPicPr/>
          <p:nvPr/>
        </p:nvPicPr>
        <p:blipFill>
          <a:blip r:embed="rId3"/>
          <a:stretch/>
        </p:blipFill>
        <p:spPr>
          <a:xfrm>
            <a:off x="3087720" y="1306440"/>
            <a:ext cx="288720" cy="257400"/>
          </a:xfrm>
          <a:prstGeom prst="rect">
            <a:avLst/>
          </a:prstGeom>
          <a:ln w="0">
            <a:noFill/>
          </a:ln>
        </p:spPr>
      </p:pic>
      <p:pic>
        <p:nvPicPr>
          <p:cNvPr id="947" name="Picture 1" descr=""/>
          <p:cNvPicPr/>
          <p:nvPr/>
        </p:nvPicPr>
        <p:blipFill>
          <a:blip r:embed="rId4"/>
          <a:stretch/>
        </p:blipFill>
        <p:spPr>
          <a:xfrm>
            <a:off x="1936800" y="1735200"/>
            <a:ext cx="288720" cy="257040"/>
          </a:xfrm>
          <a:prstGeom prst="rect">
            <a:avLst/>
          </a:prstGeom>
          <a:ln w="0">
            <a:noFill/>
          </a:ln>
        </p:spPr>
      </p:pic>
      <p:pic>
        <p:nvPicPr>
          <p:cNvPr id="948" name="Picture 1" descr=""/>
          <p:cNvPicPr/>
          <p:nvPr/>
        </p:nvPicPr>
        <p:blipFill>
          <a:blip r:embed="rId5"/>
          <a:stretch/>
        </p:blipFill>
        <p:spPr>
          <a:xfrm>
            <a:off x="3087720" y="1754280"/>
            <a:ext cx="288720" cy="257040"/>
          </a:xfrm>
          <a:prstGeom prst="rect">
            <a:avLst/>
          </a:prstGeom>
          <a:ln w="0">
            <a:noFill/>
          </a:ln>
        </p:spPr>
      </p:pic>
      <p:pic>
        <p:nvPicPr>
          <p:cNvPr id="949" name="Picture 1" descr=""/>
          <p:cNvPicPr/>
          <p:nvPr/>
        </p:nvPicPr>
        <p:blipFill>
          <a:blip r:embed="rId6"/>
          <a:stretch/>
        </p:blipFill>
        <p:spPr>
          <a:xfrm>
            <a:off x="1946160" y="2185920"/>
            <a:ext cx="289080" cy="257400"/>
          </a:xfrm>
          <a:prstGeom prst="rect">
            <a:avLst/>
          </a:prstGeom>
          <a:ln w="0">
            <a:noFill/>
          </a:ln>
        </p:spPr>
      </p:pic>
      <p:pic>
        <p:nvPicPr>
          <p:cNvPr id="950" name="Picture 1" descr=""/>
          <p:cNvPicPr/>
          <p:nvPr/>
        </p:nvPicPr>
        <p:blipFill>
          <a:blip r:embed="rId7"/>
          <a:stretch/>
        </p:blipFill>
        <p:spPr>
          <a:xfrm>
            <a:off x="3097080" y="2205000"/>
            <a:ext cx="289080" cy="257040"/>
          </a:xfrm>
          <a:prstGeom prst="rect">
            <a:avLst/>
          </a:prstGeom>
          <a:ln w="0">
            <a:noFill/>
          </a:ln>
        </p:spPr>
      </p:pic>
      <p:pic>
        <p:nvPicPr>
          <p:cNvPr id="951" name="Picture 1" descr=""/>
          <p:cNvPicPr/>
          <p:nvPr/>
        </p:nvPicPr>
        <p:blipFill>
          <a:blip r:embed="rId8"/>
          <a:stretch/>
        </p:blipFill>
        <p:spPr>
          <a:xfrm>
            <a:off x="5951520" y="1293840"/>
            <a:ext cx="289080" cy="257040"/>
          </a:xfrm>
          <a:prstGeom prst="rect">
            <a:avLst/>
          </a:prstGeom>
          <a:ln w="0">
            <a:noFill/>
          </a:ln>
        </p:spPr>
      </p:pic>
      <p:pic>
        <p:nvPicPr>
          <p:cNvPr id="952" name="Picture 1" descr=""/>
          <p:cNvPicPr/>
          <p:nvPr/>
        </p:nvPicPr>
        <p:blipFill>
          <a:blip r:embed="rId9"/>
          <a:stretch/>
        </p:blipFill>
        <p:spPr>
          <a:xfrm>
            <a:off x="7102440" y="1312920"/>
            <a:ext cx="289080" cy="257040"/>
          </a:xfrm>
          <a:prstGeom prst="rect">
            <a:avLst/>
          </a:prstGeom>
          <a:ln w="0">
            <a:noFill/>
          </a:ln>
        </p:spPr>
      </p:pic>
      <p:pic>
        <p:nvPicPr>
          <p:cNvPr id="953" name="Picture 1" descr=""/>
          <p:cNvPicPr/>
          <p:nvPr/>
        </p:nvPicPr>
        <p:blipFill>
          <a:blip r:embed="rId10"/>
          <a:stretch/>
        </p:blipFill>
        <p:spPr>
          <a:xfrm>
            <a:off x="5951520" y="1744560"/>
            <a:ext cx="289080" cy="257400"/>
          </a:xfrm>
          <a:prstGeom prst="rect">
            <a:avLst/>
          </a:prstGeom>
          <a:ln w="0">
            <a:noFill/>
          </a:ln>
        </p:spPr>
      </p:pic>
      <p:pic>
        <p:nvPicPr>
          <p:cNvPr id="954" name="Picture 1" descr=""/>
          <p:cNvPicPr/>
          <p:nvPr/>
        </p:nvPicPr>
        <p:blipFill>
          <a:blip r:embed="rId11"/>
          <a:stretch/>
        </p:blipFill>
        <p:spPr>
          <a:xfrm>
            <a:off x="7102440" y="1763640"/>
            <a:ext cx="289080" cy="257400"/>
          </a:xfrm>
          <a:prstGeom prst="rect">
            <a:avLst/>
          </a:prstGeom>
          <a:ln w="0">
            <a:noFill/>
          </a:ln>
        </p:spPr>
      </p:pic>
      <p:pic>
        <p:nvPicPr>
          <p:cNvPr id="955" name="Picture 1" descr=""/>
          <p:cNvPicPr/>
          <p:nvPr/>
        </p:nvPicPr>
        <p:blipFill>
          <a:blip r:embed="rId12"/>
          <a:stretch/>
        </p:blipFill>
        <p:spPr>
          <a:xfrm>
            <a:off x="5961240" y="2176560"/>
            <a:ext cx="288720" cy="257040"/>
          </a:xfrm>
          <a:prstGeom prst="rect">
            <a:avLst/>
          </a:prstGeom>
          <a:ln w="0">
            <a:noFill/>
          </a:ln>
        </p:spPr>
      </p:pic>
      <p:pic>
        <p:nvPicPr>
          <p:cNvPr id="956" name="Picture 1" descr=""/>
          <p:cNvPicPr/>
          <p:nvPr/>
        </p:nvPicPr>
        <p:blipFill>
          <a:blip r:embed="rId13"/>
          <a:stretch/>
        </p:blipFill>
        <p:spPr>
          <a:xfrm>
            <a:off x="7112160" y="2195640"/>
            <a:ext cx="288720" cy="257040"/>
          </a:xfrm>
          <a:prstGeom prst="rect">
            <a:avLst/>
          </a:prstGeom>
          <a:ln w="0">
            <a:noFill/>
          </a:ln>
        </p:spPr>
      </p:pic>
      <p:pic>
        <p:nvPicPr>
          <p:cNvPr id="957" name="Picture 1" descr=""/>
          <p:cNvPicPr/>
          <p:nvPr/>
        </p:nvPicPr>
        <p:blipFill>
          <a:blip r:embed="rId14"/>
          <a:stretch/>
        </p:blipFill>
        <p:spPr>
          <a:xfrm>
            <a:off x="1230480" y="4662360"/>
            <a:ext cx="288720" cy="257400"/>
          </a:xfrm>
          <a:prstGeom prst="rect">
            <a:avLst/>
          </a:prstGeom>
          <a:ln w="0">
            <a:noFill/>
          </a:ln>
        </p:spPr>
      </p:pic>
      <p:pic>
        <p:nvPicPr>
          <p:cNvPr id="958" name="Picture 1" descr=""/>
          <p:cNvPicPr/>
          <p:nvPr/>
        </p:nvPicPr>
        <p:blipFill>
          <a:blip r:embed="rId15"/>
          <a:stretch/>
        </p:blipFill>
        <p:spPr>
          <a:xfrm>
            <a:off x="2195640" y="4005360"/>
            <a:ext cx="1296720" cy="257040"/>
          </a:xfrm>
          <a:prstGeom prst="rect">
            <a:avLst/>
          </a:prstGeom>
          <a:ln w="0">
            <a:noFill/>
          </a:ln>
        </p:spPr>
      </p:pic>
      <p:pic>
        <p:nvPicPr>
          <p:cNvPr id="959" name="Picture 1" descr=""/>
          <p:cNvPicPr/>
          <p:nvPr/>
        </p:nvPicPr>
        <p:blipFill>
          <a:blip r:embed="rId16"/>
          <a:stretch/>
        </p:blipFill>
        <p:spPr>
          <a:xfrm>
            <a:off x="2124000" y="4356000"/>
            <a:ext cx="1297080" cy="257400"/>
          </a:xfrm>
          <a:prstGeom prst="rect">
            <a:avLst/>
          </a:prstGeom>
          <a:ln w="0">
            <a:noFill/>
          </a:ln>
        </p:spPr>
      </p:pic>
      <p:pic>
        <p:nvPicPr>
          <p:cNvPr id="960" name="Picture 1" descr=""/>
          <p:cNvPicPr/>
          <p:nvPr/>
        </p:nvPicPr>
        <p:blipFill>
          <a:blip r:embed="rId17"/>
          <a:stretch/>
        </p:blipFill>
        <p:spPr>
          <a:xfrm>
            <a:off x="5076720" y="4662360"/>
            <a:ext cx="289080" cy="257400"/>
          </a:xfrm>
          <a:prstGeom prst="rect">
            <a:avLst/>
          </a:prstGeom>
          <a:ln w="0">
            <a:noFill/>
          </a:ln>
        </p:spPr>
      </p:pic>
      <p:pic>
        <p:nvPicPr>
          <p:cNvPr id="961" name="Picture 1" descr=""/>
          <p:cNvPicPr/>
          <p:nvPr/>
        </p:nvPicPr>
        <p:blipFill>
          <a:blip r:embed="rId18"/>
          <a:stretch/>
        </p:blipFill>
        <p:spPr>
          <a:xfrm>
            <a:off x="5940360" y="4005360"/>
            <a:ext cx="1297080" cy="257040"/>
          </a:xfrm>
          <a:prstGeom prst="rect">
            <a:avLst/>
          </a:prstGeom>
          <a:ln w="0">
            <a:noFill/>
          </a:ln>
        </p:spPr>
      </p:pic>
      <p:pic>
        <p:nvPicPr>
          <p:cNvPr id="962" name="Picture 1" descr=""/>
          <p:cNvPicPr/>
          <p:nvPr/>
        </p:nvPicPr>
        <p:blipFill>
          <a:blip r:embed="rId19"/>
          <a:stretch/>
        </p:blipFill>
        <p:spPr>
          <a:xfrm>
            <a:off x="5940360" y="4356000"/>
            <a:ext cx="1297080" cy="257400"/>
          </a:xfrm>
          <a:prstGeom prst="rect">
            <a:avLst/>
          </a:prstGeom>
          <a:ln w="0">
            <a:noFill/>
          </a:ln>
        </p:spPr>
      </p:pic>
      <p:pic>
        <p:nvPicPr>
          <p:cNvPr id="963" name="Picture 1" descr=""/>
          <p:cNvPicPr/>
          <p:nvPr/>
        </p:nvPicPr>
        <p:blipFill>
          <a:blip r:embed="rId20"/>
          <a:stretch/>
        </p:blipFill>
        <p:spPr>
          <a:xfrm>
            <a:off x="755640" y="5425920"/>
            <a:ext cx="2087640" cy="257400"/>
          </a:xfrm>
          <a:prstGeom prst="rect">
            <a:avLst/>
          </a:prstGeom>
          <a:ln w="0">
            <a:noFill/>
          </a:ln>
        </p:spPr>
      </p:pic>
      <p:pic>
        <p:nvPicPr>
          <p:cNvPr id="964" name="Picture 1" descr=""/>
          <p:cNvPicPr/>
          <p:nvPr/>
        </p:nvPicPr>
        <p:blipFill>
          <a:blip r:embed="rId21"/>
          <a:stretch/>
        </p:blipFill>
        <p:spPr>
          <a:xfrm>
            <a:off x="539640" y="5776920"/>
            <a:ext cx="2087640" cy="257040"/>
          </a:xfrm>
          <a:prstGeom prst="rect">
            <a:avLst/>
          </a:prstGeom>
          <a:ln w="0">
            <a:noFill/>
          </a:ln>
        </p:spPr>
      </p:pic>
      <p:pic>
        <p:nvPicPr>
          <p:cNvPr id="965" name="Picture 1" descr=""/>
          <p:cNvPicPr/>
          <p:nvPr/>
        </p:nvPicPr>
        <p:blipFill>
          <a:blip r:embed="rId22"/>
          <a:stretch/>
        </p:blipFill>
        <p:spPr>
          <a:xfrm>
            <a:off x="573120" y="6102360"/>
            <a:ext cx="2087640" cy="257040"/>
          </a:xfrm>
          <a:prstGeom prst="rect">
            <a:avLst/>
          </a:prstGeom>
          <a:ln w="0">
            <a:noFill/>
          </a:ln>
        </p:spPr>
      </p:pic>
      <p:pic>
        <p:nvPicPr>
          <p:cNvPr id="966" name="Picture 1" descr=""/>
          <p:cNvPicPr/>
          <p:nvPr/>
        </p:nvPicPr>
        <p:blipFill>
          <a:blip r:embed="rId23"/>
          <a:stretch/>
        </p:blipFill>
        <p:spPr>
          <a:xfrm>
            <a:off x="468360" y="6419880"/>
            <a:ext cx="3382920" cy="257040"/>
          </a:xfrm>
          <a:prstGeom prst="rect">
            <a:avLst/>
          </a:prstGeom>
          <a:ln w="0">
            <a:noFill/>
          </a:ln>
        </p:spPr>
      </p:pic>
      <p:pic>
        <p:nvPicPr>
          <p:cNvPr id="967" name="Picture 1" descr=""/>
          <p:cNvPicPr/>
          <p:nvPr/>
        </p:nvPicPr>
        <p:blipFill>
          <a:blip r:embed="rId24"/>
          <a:stretch/>
        </p:blipFill>
        <p:spPr>
          <a:xfrm>
            <a:off x="8379000" y="3348000"/>
            <a:ext cx="288720" cy="257040"/>
          </a:xfrm>
          <a:prstGeom prst="rect">
            <a:avLst/>
          </a:prstGeom>
          <a:ln w="0">
            <a:noFill/>
          </a:ln>
        </p:spPr>
      </p:pic>
      <p:pic>
        <p:nvPicPr>
          <p:cNvPr id="968" name="Picture 1" descr=""/>
          <p:cNvPicPr/>
          <p:nvPr/>
        </p:nvPicPr>
        <p:blipFill>
          <a:blip r:embed="rId25"/>
          <a:stretch/>
        </p:blipFill>
        <p:spPr>
          <a:xfrm>
            <a:off x="8485200" y="3760920"/>
            <a:ext cx="289080" cy="257040"/>
          </a:xfrm>
          <a:prstGeom prst="rect">
            <a:avLst/>
          </a:prstGeom>
          <a:ln w="0">
            <a:noFill/>
          </a:ln>
        </p:spPr>
      </p:pic>
      <p:pic>
        <p:nvPicPr>
          <p:cNvPr id="969" name="Picture 1" descr=""/>
          <p:cNvPicPr/>
          <p:nvPr/>
        </p:nvPicPr>
        <p:blipFill>
          <a:blip r:embed="rId26"/>
          <a:stretch/>
        </p:blipFill>
        <p:spPr>
          <a:xfrm>
            <a:off x="8478720" y="4149720"/>
            <a:ext cx="289080" cy="257040"/>
          </a:xfrm>
          <a:prstGeom prst="rect">
            <a:avLst/>
          </a:prstGeom>
          <a:ln w="0">
            <a:noFill/>
          </a:ln>
        </p:spPr>
      </p:pic>
      <p:pic>
        <p:nvPicPr>
          <p:cNvPr id="970" name="Picture 1" descr=""/>
          <p:cNvPicPr/>
          <p:nvPr/>
        </p:nvPicPr>
        <p:blipFill>
          <a:blip r:embed="rId27"/>
          <a:stretch/>
        </p:blipFill>
        <p:spPr>
          <a:xfrm>
            <a:off x="8478720" y="4581360"/>
            <a:ext cx="289080" cy="257400"/>
          </a:xfrm>
          <a:prstGeom prst="rect">
            <a:avLst/>
          </a:prstGeom>
          <a:ln w="0">
            <a:noFill/>
          </a:ln>
        </p:spPr>
      </p:pic>
      <p:pic>
        <p:nvPicPr>
          <p:cNvPr id="971" name="Picture 1" descr=""/>
          <p:cNvPicPr/>
          <p:nvPr/>
        </p:nvPicPr>
        <p:blipFill>
          <a:blip r:embed="rId28"/>
          <a:stretch/>
        </p:blipFill>
        <p:spPr>
          <a:xfrm>
            <a:off x="8469360" y="4970520"/>
            <a:ext cx="288720" cy="257040"/>
          </a:xfrm>
          <a:prstGeom prst="rect">
            <a:avLst/>
          </a:prstGeom>
          <a:ln w="0">
            <a:noFill/>
          </a:ln>
        </p:spPr>
      </p:pic>
      <p:pic>
        <p:nvPicPr>
          <p:cNvPr id="972" name="Picture 1" descr=""/>
          <p:cNvPicPr/>
          <p:nvPr/>
        </p:nvPicPr>
        <p:blipFill>
          <a:blip r:embed="rId29"/>
          <a:stretch/>
        </p:blipFill>
        <p:spPr>
          <a:xfrm>
            <a:off x="8478720" y="5392800"/>
            <a:ext cx="289080" cy="257040"/>
          </a:xfrm>
          <a:prstGeom prst="rect">
            <a:avLst/>
          </a:prstGeom>
          <a:ln w="0">
            <a:noFill/>
          </a:ln>
        </p:spPr>
      </p:pic>
      <p:pic>
        <p:nvPicPr>
          <p:cNvPr id="973" name="Picture 1" descr=""/>
          <p:cNvPicPr/>
          <p:nvPr/>
        </p:nvPicPr>
        <p:blipFill>
          <a:blip r:embed="rId30"/>
          <a:stretch/>
        </p:blipFill>
        <p:spPr>
          <a:xfrm>
            <a:off x="8478720" y="5805360"/>
            <a:ext cx="289080" cy="257400"/>
          </a:xfrm>
          <a:prstGeom prst="rect">
            <a:avLst/>
          </a:prstGeom>
          <a:ln w="0">
            <a:noFill/>
          </a:ln>
        </p:spPr>
      </p:pic>
      <p:pic>
        <p:nvPicPr>
          <p:cNvPr id="974" name="Picture 1" descr=""/>
          <p:cNvPicPr/>
          <p:nvPr/>
        </p:nvPicPr>
        <p:blipFill>
          <a:blip r:embed="rId31"/>
          <a:stretch/>
        </p:blipFill>
        <p:spPr>
          <a:xfrm>
            <a:off x="8488440" y="6203880"/>
            <a:ext cx="288720" cy="2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3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8" dur="5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3" dur="5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8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3" dur="5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8" dur="5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8" dur="5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3" dur="5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8" dur="5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3" dur="5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8" dur="5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3" dur="5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8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3" dur="5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8" dur="5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3" dur="5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8" dur="5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3" dur="5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8" dur="5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3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8" dur="5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3" dur="5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8" dur="5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3" dur="5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8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3" dur="5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8" dur="5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3" dur="5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8" dur="50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17T01:42:52Z</dcterms:modified>
  <cp:revision>23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